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98559"/>
        <c:axId val="3994917"/>
      </c:barChart>
      <c:catAx>
        <c:axId val="36198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4917"/>
        <c:crosses val="autoZero"/>
        <c:auto val="1"/>
        <c:lblAlgn val="ctr"/>
        <c:lblOffset val="100"/>
        <c:noMultiLvlLbl val="0"/>
      </c:catAx>
      <c:valAx>
        <c:axId val="3994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98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1D5-CB7B-41D5-AA51-B3DDA736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1C3-BF68-499A-9223-73E62572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090-FC12-4DA6-876F-D2489A0F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4FE-8F1F-4A06-AB70-379BEE77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2AC-885D-4B4A-A47B-A2678211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97C-D01F-48B5-AA98-2252924D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72E-8252-4DEE-A9C5-7DD6E43F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4F6-9BBD-487A-9A81-C67B989E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C7C-46BC-4938-B1E3-91D58656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ED4-F13C-4A90-9484-CC16EB0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0CA-B3A1-4B46-BF71-3FCBBB63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E60-406E-4224-A619-55D275A8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C28B9-AA94-4EC6-91E1-02196522C8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