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99586"/>
        <c:axId val="37172437"/>
      </c:barChart>
      <c:catAx>
        <c:axId val="28599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72437"/>
        <c:crosses val="autoZero"/>
        <c:auto val="1"/>
        <c:lblAlgn val="ctr"/>
        <c:lblOffset val="100"/>
        <c:noMultiLvlLbl val="0"/>
      </c:catAx>
      <c:valAx>
        <c:axId val="371724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99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0B50-AFF9-42A6-82BA-E333DBA2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B67-1A88-463F-A521-77DA3430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A45-526C-4DD6-AE55-D6F03AF0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DBF-993C-42C6-B624-E8E34BEA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BB1-CF1A-4CC7-9973-B4771DCE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C1EF-57B4-418F-BE06-280B9324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1F2B-7D05-4F3E-8024-DB09C27C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ED9-30BB-4EF6-B6E2-43DE3036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27D-640C-4B43-80DC-ADDDBBD7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446-C04D-4B28-A9D5-62FAC220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D19-885E-49A0-8023-D190708B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B31-8D31-49CB-B0D8-EAA46EB7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A5580-4F50-4C75-9688-426F0F4169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