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13220"/>
        <c:axId val="97943104"/>
      </c:barChart>
      <c:catAx>
        <c:axId val="53613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43104"/>
        <c:crosses val="autoZero"/>
        <c:auto val="1"/>
        <c:lblAlgn val="ctr"/>
        <c:lblOffset val="100"/>
        <c:noMultiLvlLbl val="0"/>
      </c:catAx>
      <c:valAx>
        <c:axId val="97943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13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FBD-2E6F-42EB-912C-E0AD98AE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984-83FB-4A13-AB69-029E4917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CD4-AF52-4E5E-99F7-47DFFB71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38C-317F-4979-8566-FB42FD52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107-E6BD-4DFD-B1AC-D86E492D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49C-12F2-4DFB-A663-3C8235D6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9D9-D11B-484B-AE4B-0BEECAE8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3F4-9F41-462F-B38B-0E5216AB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3DD-9DBB-4152-A650-470F26C9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1DE-F494-4FFF-A53D-E3E02091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197-2287-4CAD-8927-FF4F1B02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6EB-4D43-471D-B38D-5D6284EC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2D8A0-1D87-4954-B9A1-9435C6EDB4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