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295"/>
        <c:axId val="77280152"/>
      </c:barChart>
      <c:catAx>
        <c:axId val="664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0152"/>
        <c:crosses val="autoZero"/>
        <c:auto val="1"/>
        <c:lblAlgn val="ctr"/>
        <c:lblOffset val="100"/>
        <c:noMultiLvlLbl val="0"/>
      </c:catAx>
      <c:valAx>
        <c:axId val="77280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7C9-E053-408D-ABF5-576C188A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515-09C1-469E-97EB-9CD6EBD5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CB5-597A-4DE7-9203-8AC4FC15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C09-4C75-4C05-947E-3624BDAB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682-27ED-4990-AF7F-F5B71CC4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0FE-4F8B-4274-8DE9-26618B85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9F3-01F0-4606-9952-4CE3DEA4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9DB-BD55-4DA3-9292-060798E2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9C0-3B9F-4772-A755-46E475A5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5E6-FE61-4B33-951C-DB378D50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094-576B-4F32-874C-773A67A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FDC-F384-4E91-B94C-4778D45C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B2D01-B324-463A-81E6-E14476B353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